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29F-F5AC-4454-B5BE-B560ABAF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56C-F618-49F2-908E-452977D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AA3-EB0E-457F-934A-33D7CA82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F73-735B-4793-9A13-33D9B021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D27-4792-4042-A071-F30D777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701-375C-406A-A19C-C7808818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B55-E287-4A0D-B0B3-DED271E8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FAF-3B98-4FA3-81BC-DA7B2DF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1A3-7D21-451E-8CFD-62A75486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40D-B0CE-44CC-863E-F3067E8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82A-7003-4157-BA3C-ACF0D6A3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BC8-AFEF-43D7-B832-1F89041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32ED-959B-4CDF-ACC7-06B393EB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aamath.com/div66rx2.htm" TargetMode="External"/><Relationship Id="rId2" Type="http://schemas.openxmlformats.org/officeDocument/2006/relationships/hyperlink" Target="http://www.math.com/school/subject1/lessons/S1U1L6GL.html" TargetMode="External"/><Relationship Id="rId3" Type="http://schemas.openxmlformats.org/officeDocument/2006/relationships/hyperlink" Target="http://www.mathsisfun.com/dividing-decimals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1-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43828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111 #28 – 36 EV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 problems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LEASE REFER TO THE YOUTUBE VIDEO ON YOUR WIKI.  Watch the whole thing, it’s a great detailed 4 minute lesson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335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Divide F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ING FRACTIONS                           Multiply by the RECIPROCAL                  Copy Change F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14400" y="2743200"/>
                <a:ext cx="6800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066680" y="4724280"/>
                <a:ext cx="668340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ding Decimals are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ry anymore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on the links below to show examples of step by step of dividing 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aamath.com/div66rx2.ht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.com/school/subject1/lessons/S1U1L6GL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sisfun.com/dividing-decimals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PRACT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0"/>
            <a:ext cx="83059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1 #16 – 38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 86 #18 – 42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/C (A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981080"/>
            <a:ext cx="853452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T under Today's Discussion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 should see at least 3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04920"/>
            <a:ext cx="7696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447920"/>
            <a:ext cx="7925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INTEGER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Isosceles Triangle 4"/>
          <p:cNvSpPr/>
          <p:nvPr/>
        </p:nvSpPr>
        <p:spPr>
          <a:xfrm rot="10800000">
            <a:off x="3123720" y="1447560"/>
            <a:ext cx="5867640" cy="3962160"/>
          </a:xfrm>
          <a:prstGeom prst="triangle">
            <a:avLst>
              <a:gd name="adj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Owner\AppData\Local\Microsoft\Windows\Temporary Internet Files\Content.IE5\R3O005QE\MC900432531[1].png"/>
          <p:cNvPicPr/>
          <p:nvPr/>
        </p:nvPicPr>
        <p:blipFill>
          <a:blip r:embed="rId2"/>
          <a:stretch/>
        </p:blipFill>
        <p:spPr>
          <a:xfrm>
            <a:off x="5486400" y="3581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Owner\AppData\Local\Microsoft\Windows\Temporary Internet Files\Content.IE5\ZA5CTEV1\MC910216403[1].png"/>
          <p:cNvPicPr/>
          <p:nvPr/>
        </p:nvPicPr>
        <p:blipFill>
          <a:blip r:embed="rId3"/>
          <a:stretch/>
        </p:blipFill>
        <p:spPr>
          <a:xfrm>
            <a:off x="3886200" y="1600200"/>
            <a:ext cx="12668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Owner\AppData\Local\Microsoft\Windows\Temporary Internet Files\Content.IE5\ZA5CTEV1\MC910216403[1].png"/>
          <p:cNvPicPr/>
          <p:nvPr/>
        </p:nvPicPr>
        <p:blipFill>
          <a:blip r:embed="rId4"/>
          <a:stretch/>
        </p:blipFill>
        <p:spPr>
          <a:xfrm>
            <a:off x="6934320" y="1600200"/>
            <a:ext cx="1266840" cy="110340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1"/>
          <p:cNvSpPr/>
          <p:nvPr/>
        </p:nvSpPr>
        <p:spPr>
          <a:xfrm flipH="1">
            <a:off x="6019920" y="5423040"/>
            <a:ext cx="38160" cy="144756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4191120" y="5562720"/>
            <a:ext cx="1790640" cy="60948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 flipH="1">
            <a:off x="6019920" y="5257800"/>
            <a:ext cx="1828800" cy="990720"/>
          </a:xfrm>
          <a:prstGeom prst="line">
            <a:avLst/>
          </a:prstGeom>
          <a:ln w="12060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30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2614680" cy="2749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 about myself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eople! I'm going to tell you about myself. First of all I'm zero, which isn't a positive or a negative. My friends are positives and negatives though..let me tell you about them thou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- when you multiply integers with same sign, do normal multiplication and the sign of the answer is positive 3 x 4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, do normal multiplication and the sign of the answer is positive (-3) x (-4) = 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multiply integers with opposite signs, do normal multiplication and the sign of the answer is negative 3 x (-4) = -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3) x (4) = -12 -the rules in multiplication are the same rules applying to division, except of course you have to change the sign to divi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 well...im zero. Zero is never negative or positive so yeah....By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14600" y="533520"/>
            <a:ext cx="4267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3059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sign = POSIT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sign =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AND DIVIDE DIFFERENT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520" y="1905120"/>
                <a:ext cx="42098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" y="3200400"/>
                <a:ext cx="45370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4419720"/>
                <a:ext cx="239220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AND DIVIDE SAME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04920" y="2057400"/>
                <a:ext cx="46623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" y="3276720"/>
                <a:ext cx="47307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160640" y="4495680"/>
                <a:ext cx="2590560" cy="200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of Simplify Algebraic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4214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Examp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13716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IFY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multiply and divide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57200" y="1981080"/>
                <a:ext cx="210024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24280" y="2133720"/>
                <a:ext cx="35197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905120" y="4952880"/>
                <a:ext cx="43894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zz1</cp:lastModifiedBy>
  <dcterms:modified xsi:type="dcterms:W3CDTF">2010-09-30T00:24:38Z</dcterms:modified>
  <cp:revision>18</cp:revision>
  <dc:subject/>
  <dc:title>Slide 1</dc:title>
</cp:coreProperties>
</file>